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46B3-9CF4-41C3-ABDA-8DA15210B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38600" y="364392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0336-B6C8-490A-A4BC-DDB23FB57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70614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F282-376B-4D99-BF9E-59E9C60B3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54336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4812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860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54336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54812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B647-1572-4BD6-B329-36B2C3F71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ACB8-F9AA-43A5-B751-081C3B88E2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7A360-31CA-436A-B8EB-9900B49EC4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13FF-8EFF-4FBE-821C-5BFA47C123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ABAB-1018-4E53-B27F-A71D706476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5B578-10F1-4F0A-8232-08640B5D4A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536800" y="53352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BF09-486B-443D-A5B5-9FB3DFEF8A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7896-D0D4-46FF-943C-64EE28FBD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A5C4-9CF3-427C-8BED-30028AF7A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614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6BA0-7CF3-41F1-8BF0-DFF059D480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6EA4-6ECD-4383-9B69-B06F7F7210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8600" y="364392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895A-95A0-49FA-B274-04127246D2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70614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F844-83CA-4D3A-BE97-8EBE89E6F5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4336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4812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860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654336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54812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C6081-AA9A-4CAD-9023-FDF9A7C7F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0AAC-7E81-44A1-8822-3D4EC21A3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B9CB-C59F-414A-A72C-3A6BB9B03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92A8-0D86-4C3A-831D-D8B0327E1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536800" y="53352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15AF-57E9-440F-90DE-A2589EA01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660B-A6D2-472F-B196-A15507E2A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0614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AFEF-E207-4901-B49F-E0B7B4A1A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9948-B4F0-41CD-ADC4-80AF43C2C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Click to edit the title text format</a:t>
            </a: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7640" indent="-17640"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7640" indent="-17640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7640" indent="-17640"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7640" indent="-1764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7640" indent="-1764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7640" indent="-1764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55040" y="6248160"/>
            <a:ext cx="249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99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718-0CE8-46DB-8620-36BAF3B99FB9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417600" y="433440"/>
            <a:ext cx="8307360" cy="3108240"/>
          </a:xfrm>
          <a:prstGeom prst="roundRect">
            <a:avLst>
              <a:gd name="adj" fmla="val 4574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18194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bc9d8"/>
                </a:solidFill>
                <a:latin typeface="Verdana Bold"/>
              </a:rPr>
              <a:t>Click to edit the title text format</a:t>
            </a:r>
            <a:endParaRPr b="0" lang="en-US" sz="4500" spc="-1" strike="noStrike">
              <a:solidFill>
                <a:srgbClr val="9bc9d8"/>
              </a:solidFill>
              <a:latin typeface="Verdana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marL="1512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1" marL="15120" indent="-15120" algn="r"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2" marL="15120" indent="-15120" algn="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3" marL="15120" indent="-15120" algn="r"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4" marL="15120" indent="-1512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5" marL="15120" indent="-1512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6" marL="15120" indent="-1512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8555040" y="6248160"/>
            <a:ext cx="249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99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35F9-C34F-45FE-9459-BF0BD6B30BE6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BD1A-08D3-4BE0-AC16-A26142030D34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JADE 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hard gemstone often used in jewelry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276360" cy="32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97544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TOC</a:t>
            </a: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1447560"/>
            <a:ext cx="851076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-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g 3: Vocab Ch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640" indent="-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g4: Vocab 2 c-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3F1D-AFCC-447D-AD15-218380D1E597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6FFB-4BD8-4527-8A75-E57343D76BC3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LEGALISM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Verdana"/>
              </a:rPr>
              <a:t>THE BELIEF THAT PEOPLE WERE BAD BY NATURE AND NEEDED TO BE CONTROL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303120" y="304920"/>
            <a:ext cx="2965680" cy="3427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1447920" y="3657600"/>
            <a:ext cx="411480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F4B3-688B-4413-B8D5-EBB34376B3A1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THE GREAT WALL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A BARRIER MADE OF WALLS ACROSS CHINA’S NORTHERN FRONTI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462600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4D52-4E30-4EED-90B4-B6D4F9420016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SHI HUANGDI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FIRST EMPEROR OF THE QIN DYNASTY.  HE CREATED A STRONG GOVERNMENT WITH STRICT LAWS AND PUNISHME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914400" y="557280"/>
            <a:ext cx="411480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6E74-7747-4D51-9E63-A302746761A5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SILK ROAD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 NETWORK OF TRADE ROUTES THAT STRETCHED ACROSS ASIA FROM CHINA TO THE MEDITERRANEAN SE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762120" y="912960"/>
            <a:ext cx="46260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D4F6-7EDB-449D-835B-1113F2C3770F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SHANG DYNASTY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538600" y="1447920"/>
            <a:ext cx="29718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FIRST DYNASTY: 1500’S B.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LOCATED IN NORTHERN CH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ORDER BECAME MORE ORGANIZED UNDER THIS DYNAS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374760" y="685800"/>
            <a:ext cx="480672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2A7C-3B11-4317-9A5D-8E60C9E8D1B2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ZHOU DYNASTY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ECOND DYNAS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LASTED LONGER THAN ANY OTHER DYNASTY IN CHINESE HISTOR</a:t>
            </a:r>
            <a:r>
              <a:rPr b="0" lang="en-US" sz="24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497844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4E20-F10E-454E-8A26-FCAD5FA46D5F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QIN DYNASTY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THIRD DYNAS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DEFEATED ALL WARRING STUATES AND UNIFIED THE COUNTRY UNDER A SINGLE GOVERN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42544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91E0-BED2-4AC5-B0F3-B76F1BEE8395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DIFFUSION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THE SPREAD OF IDEAS FROM ONE CULTURE TO ANOTHER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5006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12808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Bell Ringer</a:t>
            </a: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1447560"/>
            <a:ext cx="820584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What do you know about China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05AB-C898-4BD6-9289-C5716FEDF86C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20404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TOC</a:t>
            </a: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2280" y="1447560"/>
            <a:ext cx="83584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G 1 VV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g 2 Vocab 1 c-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2EA-044F-4D3A-BD8D-5145B2D855E4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5DBA-0749-453C-812E-9C7508DE1D29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HUANG HE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RIVER THAT FLOWS FROM THE KUNLUN MOUNTAINS TO THE YELLOW SEA. ALSO CALLED THE </a:t>
            </a:r>
            <a:r>
              <a:rPr b="0" lang="en-US" sz="2900" spc="-1" strike="noStrike">
                <a:solidFill>
                  <a:srgbClr val="000000"/>
                </a:solidFill>
                <a:latin typeface="Verdana Bold"/>
                <a:ea typeface="Verdana Bold"/>
              </a:rPr>
              <a:t>YELLOW RI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2381400" cy="2962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373248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F491-7445-43E1-9C8A-796656281937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CHANG JIANG RIVER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LONGEST RIVER IN ASIA, FLOWING THROUGH EASTERN CHINA. ALSO CALLED THE </a:t>
            </a:r>
            <a:r>
              <a:rPr b="0" lang="en-US" sz="2900" spc="-1" strike="noStrike">
                <a:solidFill>
                  <a:srgbClr val="000000"/>
                </a:solidFill>
                <a:latin typeface="Verdana Bold"/>
                <a:ea typeface="Verdana Bold"/>
              </a:rPr>
              <a:t>YANGTZE RIV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403884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2133720" y="3352680"/>
            <a:ext cx="3238560" cy="24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85BD-4E13-4F02-A8EA-C75A117AAAAE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Oracle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38600" y="1447920"/>
            <a:ext cx="29718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Verdana Bold"/>
                <a:ea typeface="Verdana Bold"/>
              </a:rPr>
              <a:t>A group of inscribed animal bones and shells discovered in Chi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762120" y="1870200"/>
            <a:ext cx="4626000" cy="28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FE1B-A9FB-49D2-A259-6832637097B6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Confucius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86200" y="1426680"/>
            <a:ext cx="297180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He was a Chinese scholar who created a code of behavior based on traditional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Bold"/>
                <a:ea typeface="Verdana Bold"/>
              </a:rPr>
              <a:t>Confucianis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belief system based on the teachings of Confuciu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533520" y="519120"/>
            <a:ext cx="396072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0F77-8F23-4018-A287-9EDAC6BDC2BA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Daoism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 Chinese belief system based on the idea of natural order in the wor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o is the force that guides the whole universe, according to Daois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1193760" y="1368360"/>
            <a:ext cx="3760920" cy="38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Bell Ringer</a:t>
            </a: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	</a:t>
            </a: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447560"/>
            <a:ext cx="828216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-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Based off of yesterdays notes what is the most important vocabulary to Ancient Chinas daily life? And why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5BE2-935A-4E8A-B63A-2D844DEDB9C7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</dc:creator>
  <dc:description/>
  <cp:keywords/>
  <dc:language>en-US</dc:language>
  <cp:lastModifiedBy>Tyler Daughtry</cp:lastModifiedBy>
  <dcterms:modified xsi:type="dcterms:W3CDTF">2013-11-05T13:51:53Z</dcterms:modified>
  <cp:revision>9</cp:revision>
  <dc:subject/>
  <dc:title>Unit 11: China</dc:title>
</cp:coreProperties>
</file>